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328560" y="-9360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1160" y="-93600"/>
            <a:ext cx="18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809520" y="9615240"/>
            <a:ext cx="2344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E17212-1DB1-4686-A14A-A10100C49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BCB8B7-2BB9-439F-B426-6ED75BE90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3A5F26-DE85-47C9-80EB-899BC1638A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9520" y="9615240"/>
            <a:ext cx="2344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28560" y="-9360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1160" y="-93600"/>
            <a:ext cx="18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ABB1A1-D6CE-41B6-81B6-E06782AD42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046112-4B3A-4934-8366-3891789BCE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73DF0F-388C-49D8-B305-31D67154E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C1262B-E67F-43B0-AA8B-93E4264A0D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019969-4D65-4328-8448-25F9F00232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820-5951-4D9E-BD02-2B34FC2F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6D7-E94A-4D6F-A33D-9B4A5560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E10-1474-43BA-A003-D85B71D2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333-AF00-4FEC-9000-3949C731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648-6ED7-47D9-94F5-CD0B7BCC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442-F120-41C6-89FF-F5BC1E08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B6E-3089-44D0-9F74-F21681BF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A7B-1BDC-4CBC-96BC-4A872A9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7A6-BACC-46BF-8EBF-60C4566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EAE-48FB-4DAB-AAA0-8AB38D9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80A-AB76-4294-A4C8-3F3CD80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4E2-1DD0-4B2E-B1B4-4FB5D57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5FCAC2-E7FA-42F6-8349-9E32ECEF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065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FD72D5-CB3B-45DF-956C-A1DB0F25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Emergency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3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520560" y="2274840"/>
          <a:ext cx="7974000" cy="22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74840"/>
                    <a:ext cx="79740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C72A14-DD14-4D26-BCF6-E200ED465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summary of IEEE 802.11 features which assist Emergency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IEEE 802.11 infrastructure by itself cannot ensure that all factors are compatible for an Emergency Service call to actually take pl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lient device may have to register with a call manager (SIP agent or some other signaling endpoint) for the call to be placed successful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erent signaling systems such as SIP, H.323, etc., can be deployed for supporting Emergency Service call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layers can also verify an Emergency Service call is being placed so that appropriate level of resources can be granted to the emergency cal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oice endpoints (e.g., non-AP STAs) can use different codecs such as G.711, AMR, and iLB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AB8E5E-6927-437E-8AA1-E640A4A7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Calling (IEEE 802.11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Emergency Call Number provisioning of 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signaling of Emergency Service to A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dited bandwidth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s in Open Authentication hotspots, are able to place emergency cal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s without proper security credentials, for secure hotspots, are able to place emergency cal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working information element which can be included in association request frames in order to bypass the IEEE 802.1X port at an AP for un-authenticated access to emergency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D7F9C0-1500-4960-B05C-7D0BE00C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 Services (IEEE 802.11v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oth STA and AP lo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 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vic (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URI (provides location when de-referenc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tion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TA mo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 ES SG and IEEE 802.11 held a joint meeting in January 2010. It conclu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u covers most emergency service MAC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v covers most loc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need to do anything el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76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nuary 2010 Join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39F5E5-48F1-42DF-899B-2B5DA097C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TF ECR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 from provided input to the IETF ECRIT document “draft-schulzrinne-ecrit-unauthenticated-access-07.txt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 emergency services architecture assumes that the calling device has acquired rights to use the access network or that no authentication is required for the access network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protocol interactions, location information, learning the address of the PSAP and the emergency call itself are decoupled from the underlying network access procedu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addresses devices which do not have credentials for network access, do not have a VoIP provider or application service provider, or the credentials have become invalid, e.g., because the user has exhausted their prepaid balance or the account has expi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E482DC-7DCF-4F32-82DC-D3B222067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Alerts (IEEE 802.11u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 of emergency al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ification avoids broadcast f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ailability of alert transmitted to 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que hash to identify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797CE5-757E-4F34-BA8F-458DA9AF5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ther 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Service provisioning in IEEE 802.11 MESH (11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ke-on-LAN provision (energy sav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sation of IEEE 802.11 &amp; IEEE 802.1 location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Stephen McCann</cp:lastModifiedBy>
  <cp:lastPrinted>1998-02-10T13:28:06Z</cp:lastPrinted>
  <dcterms:modified xsi:type="dcterms:W3CDTF">2010-03-14T17:16:47Z</dcterms:modified>
  <cp:revision>778</cp:revision>
  <dc:subject/>
  <dc:title>ETSI ERM Summary</dc:title>
</cp:coreProperties>
</file>